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0ADD-BBC1-4D69-94B9-B088051F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8F7F-CF3E-4AC7-982D-DA6A7C41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E8CA-C2D9-4F44-894F-B3C4ACB1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76B6-C656-4BFD-9B54-A21054BA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F2A0-3569-49BF-90A9-AB614445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FDCF-68A9-4A06-BD24-0B8A92DB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A6A9-673D-4A39-8187-47C43F55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F59F-0307-44B9-A707-279295B0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07CE-27AB-488C-916C-6CF761B0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35F8-BF11-4C82-A770-45E12F01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7E7B-DDAF-46BB-84C1-E7020141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CE12-45FC-47C7-AB5A-9D902BC6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1C02-D200-4F1C-BFC7-E0606F2D219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roduction to ani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Part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Updated resources\Part 1\JPEGS\New animation part1\Page_9.jpg"/>
          <p:cNvPicPr/>
          <p:nvPr/>
        </p:nvPicPr>
        <p:blipFill>
          <a:blip r:embed="rId1"/>
          <a:stretch/>
        </p:blipFill>
        <p:spPr>
          <a:xfrm>
            <a:off x="2571840" y="0"/>
            <a:ext cx="486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Updated resources\Part 1\JPEGS\New animation part1\Page_10.jpg"/>
          <p:cNvPicPr/>
          <p:nvPr/>
        </p:nvPicPr>
        <p:blipFill>
          <a:blip r:embed="rId1"/>
          <a:stretch/>
        </p:blipFill>
        <p:spPr>
          <a:xfrm>
            <a:off x="2500200" y="0"/>
            <a:ext cx="486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Updated resources\Part 1\JPEGS\New animation part1\Page_11.jpg"/>
          <p:cNvPicPr/>
          <p:nvPr/>
        </p:nvPicPr>
        <p:blipFill>
          <a:blip r:embed="rId1"/>
          <a:stretch/>
        </p:blipFill>
        <p:spPr>
          <a:xfrm>
            <a:off x="2143080" y="0"/>
            <a:ext cx="486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D:\Updated resources\Part 1\JPEGS\New animation part1\Page_1.jpg"/>
          <p:cNvPicPr/>
          <p:nvPr/>
        </p:nvPicPr>
        <p:blipFill>
          <a:blip r:embed="rId1"/>
          <a:stretch/>
        </p:blipFill>
        <p:spPr>
          <a:xfrm>
            <a:off x="2139840" y="0"/>
            <a:ext cx="48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Updated resources\Part 1\JPEGS\New animation part1\Page_2.jpg"/>
          <p:cNvPicPr/>
          <p:nvPr/>
        </p:nvPicPr>
        <p:blipFill>
          <a:blip r:embed="rId1"/>
          <a:stretch/>
        </p:blipFill>
        <p:spPr>
          <a:xfrm>
            <a:off x="2139840" y="0"/>
            <a:ext cx="48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Updated resources\Part 1\JPEGS\New animation part1\Page_3.jpg"/>
          <p:cNvPicPr/>
          <p:nvPr/>
        </p:nvPicPr>
        <p:blipFill>
          <a:blip r:embed="rId1"/>
          <a:stretch/>
        </p:blipFill>
        <p:spPr>
          <a:xfrm>
            <a:off x="2139840" y="0"/>
            <a:ext cx="486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Updated resources\Part 1\JPEGS\New animation part1\Page_4.jpg"/>
          <p:cNvPicPr/>
          <p:nvPr/>
        </p:nvPicPr>
        <p:blipFill>
          <a:blip r:embed="rId1"/>
          <a:stretch/>
        </p:blipFill>
        <p:spPr>
          <a:xfrm>
            <a:off x="2139840" y="0"/>
            <a:ext cx="48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Updated resources\Part 1\JPEGS\New animation part1\Page_5.jpg"/>
          <p:cNvPicPr/>
          <p:nvPr/>
        </p:nvPicPr>
        <p:blipFill>
          <a:blip r:embed="rId1"/>
          <a:stretch/>
        </p:blipFill>
        <p:spPr>
          <a:xfrm>
            <a:off x="2286000" y="0"/>
            <a:ext cx="486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Updated resources\Part 1\JPEGS\New animation part1\Page_6.jpg"/>
          <p:cNvPicPr/>
          <p:nvPr/>
        </p:nvPicPr>
        <p:blipFill>
          <a:blip r:embed="rId1"/>
          <a:stretch/>
        </p:blipFill>
        <p:spPr>
          <a:xfrm>
            <a:off x="2643120" y="0"/>
            <a:ext cx="486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Updated resources\Part 1\JPEGS\New animation part1\Page_7.jpg"/>
          <p:cNvPicPr/>
          <p:nvPr/>
        </p:nvPicPr>
        <p:blipFill>
          <a:blip r:embed="rId1"/>
          <a:stretch/>
        </p:blipFill>
        <p:spPr>
          <a:xfrm>
            <a:off x="2571840" y="0"/>
            <a:ext cx="47862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Updated resources\Part 1\JPEGS\New animation part1\Page_8.jpg"/>
          <p:cNvPicPr/>
          <p:nvPr/>
        </p:nvPicPr>
        <p:blipFill>
          <a:blip r:embed="rId1"/>
          <a:stretch/>
        </p:blipFill>
        <p:spPr>
          <a:xfrm>
            <a:off x="2571840" y="0"/>
            <a:ext cx="486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0:02:51Z</dcterms:created>
  <dc:creator>kforbes</dc:creator>
  <dc:description/>
  <dc:language>en-US</dc:language>
  <cp:lastModifiedBy>kforbes</cp:lastModifiedBy>
  <dcterms:modified xsi:type="dcterms:W3CDTF">2008-10-31T11:48:14Z</dcterms:modified>
  <cp:revision>14</cp:revision>
  <dc:subject/>
  <dc:title>Introduction to animation</dc:title>
</cp:coreProperties>
</file>